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F205-0359-402D-9996-2235ADD50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811-470B-4305-B99F-EF1959DE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B8C-C816-46D6-B045-28B9FFC9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753-1426-4AB4-8E87-88D625D4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E95-57CD-4128-A0B4-21F66AB6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9D91-8607-4DE8-84AF-A4263AB2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67CC-51C3-4161-9B41-AEC44C7A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DA8E-930C-4433-A6A3-16EB8AC5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9470-559F-45E3-AE82-1D8B0F79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C13C-0ADA-46F2-8DC1-44ACA8AB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ABD1-D093-44B9-B86E-261E2CAC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8318-495B-4796-8E66-1BD854D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203-49D9-4297-A7C8-D04322C8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95D8-C2C7-4FF2-B9D5-998BC13D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6191-876E-4AD2-B56F-BA59F0BF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298C-6927-4167-890A-410AB6EF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B301-A616-42FE-A433-03DAE5DB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FEFE-C50C-49CF-8528-3BA97528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0BA5-3FAF-4703-93A3-06FA8F40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EACB-B457-49BC-B130-C41DAA0C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87B10-2558-4354-8EE0-93DC995A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FFA8-167E-4BD0-A6D6-057738E4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5B4BD-DA40-464F-9E72-E9E6B6B7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A3B-3C76-403A-8A65-0E4DD434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A6DF9-3C27-4558-B8C8-7E4AC843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191D-AB8C-4408-9A0E-DB756D22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C0AC-5ACD-4576-8233-FBD21C81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97F0-2EE6-4A43-B60B-E11A0DF9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0B72-661B-4531-8701-67AF06E2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6B46-B357-4858-ADBB-3E3BC3FF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85B31-C6EA-4D0C-96AA-9DF53B61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38B-392C-46CD-B9C5-4E986A40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195-9ED2-4CB9-B635-BE8F3568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2D3-F687-450B-9431-D229E049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97B-602B-4296-80A7-11093C40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AA2-3850-4568-9AE2-EF682F2C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CE5-F750-4C60-AADA-85537E90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1777-29D5-44F5-858A-9F5A26054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7336-2255-41C5-B6B1-8B486A2E16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07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1E2A-3044-4D07-89AF-859F0844D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066680" y="380880"/>
            <a:ext cx="7772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3505320" y="992160"/>
            <a:ext cx="5486400" cy="541332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rk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952880" y="76320"/>
            <a:ext cx="3954600" cy="66182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4275000" y="457200"/>
            <a:ext cx="4616640" cy="59180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4038480" y="303120"/>
            <a:ext cx="4572000" cy="63262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ve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921200" cy="6553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548320" cy="4405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066680" y="3581280"/>
            <a:ext cx="26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man with Wolves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Rave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962680" cy="4437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990720" y="487692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Hawk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237200" y="762120"/>
            <a:ext cx="4197240" cy="52369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e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429000" y="1057320"/>
            <a:ext cx="5638680" cy="5570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1066680" y="2719440"/>
            <a:ext cx="7925040" cy="40622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4724280" y="1219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squito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990720" y="76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cc"/>
                </a:solidFill>
                <a:uFillTx/>
                <a:latin typeface="Arial"/>
              </a:rPr>
              <a:t>Northwest Coast Tribes: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Tlingit (Tooling git), Tsimshian (Chim she an), Haida (Hi duh), Nootka, Kwakiutl (Quack ee oodle), Coast Salish, Bellabella and Bella Co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438280" y="1895400"/>
            <a:ext cx="5486400" cy="3438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219320" y="52578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219320" y="228600"/>
            <a:ext cx="75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west Indian Desig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Caren Car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nternational Design Library ,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ative North American Art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Janet C. Berlo &amp; Ruth B. Phil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Indians of the Northwest Traditio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, History, Legends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Petra Pres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civilization.ca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alcheringa-gallery.com/ http://www.blacktush.ca/ http://www.serial-design.com/ - http://www.serial-design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PaintStroke"/>
              </a:rPr>
              <a:t>www.chichesterinc.com/NWCMask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 American Indian Motif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CD-Rom and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Dover Publication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Picture 2"/>
          <p:cNvPicPr/>
          <p:nvPr/>
        </p:nvPicPr>
        <p:blipFill>
          <a:blip r:embed="rId1"/>
          <a:stretch/>
        </p:blipFill>
        <p:spPr>
          <a:xfrm>
            <a:off x="3414600" y="30240"/>
            <a:ext cx="5119920" cy="67960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907920"/>
            <a:ext cx="304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590920" y="12952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2590920" y="457200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54600" y="304920"/>
            <a:ext cx="4732200" cy="62481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Portrait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90720" y="48769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Wild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002120" y="228600"/>
            <a:ext cx="4836960" cy="64771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990720" y="4876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Old Wo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454640" y="304920"/>
            <a:ext cx="4460760" cy="62481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651120" y="380880"/>
            <a:ext cx="541656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465360" y="914400"/>
            <a:ext cx="55263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429000" y="1087560"/>
            <a:ext cx="5638680" cy="48686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657600" y="1015920"/>
            <a:ext cx="5334120" cy="50864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0:34:31Z</dcterms:created>
  <dc:creator>LPS Lincoln Public Schools</dc:creator>
  <dc:description/>
  <dc:language>en-US</dc:language>
  <cp:lastModifiedBy>Legion</cp:lastModifiedBy>
  <cp:lastPrinted>2008-09-25T22:15:34Z</cp:lastPrinted>
  <dcterms:modified xsi:type="dcterms:W3CDTF">2017-07-05T12:15:59Z</dcterms:modified>
  <cp:revision>4</cp:revision>
  <dc:subject/>
  <dc:title>PowerPoint Presentation</dc:title>
</cp:coreProperties>
</file>